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FB9-CD49-4649-995D-5FC4C19B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39E-3B1C-4203-9005-56C22B07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1C8-5014-4A14-BBEE-A1CF89D6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BDD-2C63-46A0-8FF4-77A5DC20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FC4-996C-4117-83F7-E71E6CF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61A-12B5-4BCB-AAB8-2C712B12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46D-49A9-478E-8BAE-04981706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5BF-F93F-4417-ACA5-B7A65C6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743-47E0-4615-B10F-03D309DD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D79-AA6A-4A55-971A-AC4F5FB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AB9-702B-4607-9D56-A29FDF9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2A8-3FF5-4C5D-843D-5EC3DC1F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8EFC-7F0A-4D9A-A6B5-B78E0E5A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3:38:05Z</dcterms:created>
  <dc:creator>User</dc:creator>
  <dc:description/>
  <dc:language>en-US</dc:language>
  <cp:lastModifiedBy>User</cp:lastModifiedBy>
  <dcterms:modified xsi:type="dcterms:W3CDTF">2013-02-01T23:39:40Z</dcterms:modified>
  <cp:revision>1</cp:revision>
  <dc:subject/>
  <dc:title>Slide 1</dc:title>
</cp:coreProperties>
</file>